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18E-8233-4604-A84A-AB1D0430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331-FFBA-498F-9B24-4968CAE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7B2-2ECA-42F8-B0D7-AB2D05BF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B4F-024C-4376-A8D5-B852682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E8A-F113-464F-89BF-5FC5E372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203D-5847-4153-A75D-64685EB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5ED8-663F-4FA5-9B20-D2134CC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C41-558E-4145-A9AF-EDB4EF6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023-9101-4B08-8C08-BD770467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A350-F592-425B-A274-C48BF073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1619-DBB9-4806-A53E-BD4C919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552-AAC0-4CB8-8DDF-2E9FCC6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39AF-83EC-4203-9000-99FA836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1385-81B8-4BA2-8CD7-679A26A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6B7B-CDF9-4203-A64C-DC888E9C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CB4F-29B4-4BF9-96EB-BEEEBB2B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58EC-6526-4FF1-AB91-AC5210D3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977-82AD-473A-A180-913748CC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2A8-AB4C-477B-81D3-056C3F6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5AC-F1DC-4B82-87C4-D3B43C63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972-618D-4A64-8F0D-C116752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8B6-EA0C-429C-8423-B0A9398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42E-47DB-4E77-A84F-0E70F016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E75-1DF1-470F-BB43-C29353DF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551-A67C-4660-8DDB-176C845DAF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2A82-46FE-4DAF-9CF9-C58FD926A04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РАКТИЧЕСКИЕ РЕЗУЛЬТАТЫ РАБОТЫ ПО ПОСТРОЕНИЮ СИСТЕМЫ БЮДЖЕТИРОВАНИЯ И ПЕРСПЕКТИВЫ СОВЕРШЕНСТВОВАНИЯ БЮДЖЕТНОГО УПРАВЛЕНИЯ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мь, 18 марта 2004 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55-1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br>
              <a:rPr sz="3800"/>
            </a:br>
            <a:br>
              <a:rPr sz="3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ЛЕНЬК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оман Николаевич</a:t>
            </a:r>
            <a:br>
              <a:rPr sz="4800"/>
            </a:br>
            <a:br>
              <a:rPr sz="4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заместитель генерального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директора АО «Пермэнерго»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по финансам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СУЩЕСТВУЮЩАЯ ОРГАНИЗАЦИОННО-ТЕХНОЛОГИЧЕСКАЯ СТРУКТУРА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600200"/>
          <a:ext cx="78487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60020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ХЕМА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32080" y="126036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438280"/>
            <a:ext cx="7645320" cy="4191120"/>
            <a:chOff x="1143000" y="2438280"/>
            <a:chExt cx="7645320" cy="4191120"/>
          </a:xfrm>
        </p:grpSpPr>
        <p:grpSp>
          <p:nvGrpSpPr>
            <p:cNvPr id="157" name=""/>
            <p:cNvGrpSpPr/>
            <p:nvPr/>
          </p:nvGrpSpPr>
          <p:grpSpPr>
            <a:xfrm>
              <a:off x="6824520" y="2438280"/>
              <a:ext cx="1963800" cy="1828800"/>
              <a:chOff x="6824520" y="2438280"/>
              <a:chExt cx="196380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824520" y="2438280"/>
                <a:ext cx="162576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85080" y="2590560"/>
                <a:ext cx="1625400" cy="15242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2743200"/>
                <a:ext cx="1625400" cy="1523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илиалы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143000" y="2438280"/>
              <a:ext cx="3200400" cy="1686600"/>
              <a:chOff x="1143000" y="2438280"/>
              <a:chExt cx="3200400" cy="1686600"/>
            </a:xfrm>
          </p:grpSpPr>
          <p:sp>
            <p:nvSpPr>
              <p:cNvPr id="162" name=""/>
              <p:cNvSpPr/>
              <p:nvPr/>
            </p:nvSpPr>
            <p:spPr>
              <a:xfrm>
                <a:off x="1143000" y="2438280"/>
                <a:ext cx="3200400" cy="16002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19320" y="2743200"/>
                <a:ext cx="297180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Исполнительный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аппарат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71800" y="5181480"/>
              <a:ext cx="5714640" cy="1447920"/>
              <a:chOff x="2971800" y="5181480"/>
              <a:chExt cx="5714640" cy="144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2971800" y="5181480"/>
                <a:ext cx="5409720" cy="1143000"/>
                <a:chOff x="2971800" y="5181480"/>
                <a:chExt cx="5409720" cy="1143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18148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985920" y="548640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24080" y="5334120"/>
                <a:ext cx="5409720" cy="1143000"/>
                <a:chOff x="3124080" y="5334120"/>
                <a:chExt cx="540972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24080" y="5334120"/>
                  <a:ext cx="540972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38200" y="5639040"/>
                  <a:ext cx="3493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76360" y="5486400"/>
                <a:ext cx="5410080" cy="1143000"/>
                <a:chOff x="3276360" y="5486400"/>
                <a:chExt cx="5410080" cy="1143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276360" y="5486400"/>
                  <a:ext cx="5410080" cy="114300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290480" y="5791320"/>
                  <a:ext cx="349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Контрагент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685800" y="1143000"/>
            <a:ext cx="7086600" cy="1219320"/>
            <a:chOff x="685800" y="1143000"/>
            <a:chExt cx="7086600" cy="1219320"/>
          </a:xfrm>
        </p:grpSpPr>
        <p:sp>
          <p:nvSpPr>
            <p:cNvPr id="175" name=""/>
            <p:cNvSpPr/>
            <p:nvPr/>
          </p:nvSpPr>
          <p:spPr>
            <a:xfrm>
              <a:off x="685800" y="1219320"/>
              <a:ext cx="22860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основно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38680" y="1295280"/>
              <a:ext cx="19814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ручк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 проче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реализац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408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2400" y="114300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0720" y="3276720"/>
            <a:ext cx="5867280" cy="1904760"/>
            <a:chOff x="990720" y="3276720"/>
            <a:chExt cx="5867280" cy="1904760"/>
          </a:xfrm>
        </p:grpSpPr>
        <p:sp>
          <p:nvSpPr>
            <p:cNvPr id="180" name=""/>
            <p:cNvSpPr/>
            <p:nvPr/>
          </p:nvSpPr>
          <p:spPr>
            <a:xfrm>
              <a:off x="4343400" y="327672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3352680"/>
              <a:ext cx="2590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екущее финансирование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0720" y="42512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Централизованные расчет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38480" y="4038480"/>
              <a:ext cx="0" cy="1143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467480" y="4267080"/>
            <a:ext cx="609840" cy="1219320"/>
            <a:chOff x="7467480" y="4267080"/>
            <a:chExt cx="609840" cy="1219320"/>
          </a:xfrm>
        </p:grpSpPr>
        <p:sp>
          <p:nvSpPr>
            <p:cNvPr id="185" name=""/>
            <p:cNvSpPr/>
            <p:nvPr/>
          </p:nvSpPr>
          <p:spPr>
            <a:xfrm>
              <a:off x="7467480" y="426708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2400" y="4267080"/>
              <a:ext cx="0" cy="1067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77320" y="4267080"/>
              <a:ext cx="0" cy="1219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28800" y="12193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БЪЕМНЫЕ ХАРАКТЕРИСТИКИ ФИНАНСОВЫХ ПОТОКОВ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23880"/>
            <a:ext cx="86108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 Выручка от реализа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 138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.ч. выручка от реализации основ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ции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 792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млн. рублей (без НДС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 Расход денежных средств за год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8 16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млн. руб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 Среднемесячное количество платежных документов в Исполнительном аппарате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3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172872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еш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акционеров за расходованием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контроля РЭК Администрации Пермской области за расходованием средств в соответствии со структурой затрат, утвержденных при установлении тариф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осшие требования контрагентов по четкому исполнению договорных отношений в части объемов и сроков расчет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1676520"/>
            <a:ext cx="84582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сть планирования финансовых потоков и осуществления эффективной кредитной полит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контрольное расходование средств филиал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сть учета прочих доходов филиалов при осуществлении их финансиров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постатейного перекоса в расходовании средст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утствие понятного филиалам механизма их финансирования Исполнительным аппарат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ПРИЧИНЫ СОЗДАНИЯ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ИСТЕМЫ БЮДЖЕТИРОВАНИЯ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АО «ПЕРМЭНЕРГО»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523880" y="4343400"/>
            <a:ext cx="7238880" cy="2257920"/>
            <a:chOff x="1523880" y="4343400"/>
            <a:chExt cx="7238880" cy="2257920"/>
          </a:xfrm>
        </p:grpSpPr>
        <p:sp>
          <p:nvSpPr>
            <p:cNvPr id="199" name=""/>
            <p:cNvSpPr/>
            <p:nvPr/>
          </p:nvSpPr>
          <p:spPr>
            <a:xfrm>
              <a:off x="4952880" y="43434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23880" y="5334120"/>
              <a:ext cx="7238880" cy="1267200"/>
              <a:chOff x="1523880" y="5334120"/>
              <a:chExt cx="7238880" cy="126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1523880" y="53341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4640" y="5410080"/>
                <a:ext cx="659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«Капитал CSE»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1523880" y="2971800"/>
            <a:ext cx="7238880" cy="1981080"/>
            <a:chOff x="1523880" y="2971800"/>
            <a:chExt cx="7238880" cy="1981080"/>
          </a:xfrm>
        </p:grpSpPr>
        <p:sp>
          <p:nvSpPr>
            <p:cNvPr id="204" name=""/>
            <p:cNvSpPr/>
            <p:nvPr/>
          </p:nvSpPr>
          <p:spPr>
            <a:xfrm>
              <a:off x="4952880" y="29718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523880" y="3962520"/>
              <a:ext cx="7238880" cy="990360"/>
              <a:chOff x="1523880" y="3962520"/>
              <a:chExt cx="7238880" cy="990360"/>
            </a:xfrm>
          </p:grpSpPr>
          <p:sp>
            <p:nvSpPr>
              <p:cNvPr id="206" name=""/>
              <p:cNvSpPr/>
              <p:nvPr/>
            </p:nvSpPr>
            <p:spPr>
              <a:xfrm>
                <a:off x="1523880" y="39625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844640" y="40384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Комплексная система бюджетирования на базе таблиц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EXC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1523880" y="1600200"/>
            <a:ext cx="7238880" cy="1981080"/>
            <a:chOff x="1523880" y="1600200"/>
            <a:chExt cx="7238880" cy="1981080"/>
          </a:xfrm>
        </p:grpSpPr>
        <p:sp>
          <p:nvSpPr>
            <p:cNvPr id="209" name=""/>
            <p:cNvSpPr/>
            <p:nvPr/>
          </p:nvSpPr>
          <p:spPr>
            <a:xfrm>
              <a:off x="4952880" y="1600200"/>
              <a:ext cx="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523880" y="2590920"/>
              <a:ext cx="7238880" cy="990360"/>
              <a:chOff x="1523880" y="2590920"/>
              <a:chExt cx="7238880" cy="990360"/>
            </a:xfrm>
          </p:grpSpPr>
          <p:sp>
            <p:nvSpPr>
              <p:cNvPr id="211" name=""/>
              <p:cNvSpPr/>
              <p:nvPr/>
            </p:nvSpPr>
            <p:spPr>
              <a:xfrm>
                <a:off x="1523880" y="2590920"/>
                <a:ext cx="7238880" cy="9903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44640" y="2666880"/>
                <a:ext cx="6597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Формирование консолидированного бюджет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ВОЛЮЦИЯ СИСТЕМЫ БЮДЖЕТИРОВАНИЯ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523880" y="1219320"/>
            <a:ext cx="7238880" cy="990360"/>
            <a:chOff x="1523880" y="1219320"/>
            <a:chExt cx="7238880" cy="990360"/>
          </a:xfrm>
        </p:grpSpPr>
        <p:sp>
          <p:nvSpPr>
            <p:cNvPr id="216" name=""/>
            <p:cNvSpPr/>
            <p:nvPr/>
          </p:nvSpPr>
          <p:spPr>
            <a:xfrm>
              <a:off x="1523880" y="1219320"/>
              <a:ext cx="7238880" cy="99036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4640" y="1295280"/>
              <a:ext cx="659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лное отсутствие системы бюджетир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ЫЕ РЕЗУЛЬТАТЫ ВНЕДРЕНИЯ СИСТЕМЫ БЮДЖЕТИРОВАНИЯ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295280" y="1143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95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060560"/>
            <a:ext cx="84582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четкого постатейного и пофилиального планирования и осуществления платеже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личие ответственных за каждую статью расход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прозрачности расчетов компа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ышение эффективности кредитной политики Общества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ный контроль за расходами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Учет и распределение всех доходов Общества, включая прочие доходы филиал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лучение дополнительного инструмента мотивации руководства структурных подразделений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можность учета расходования средств в переходный период в разрезе выделяемых в процессе реформирования общест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СОВЕРШЕНСТВОВАНИЯ БЮДЖЕТНОГО УПРАВЛЕНИЯ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4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2158920"/>
            <a:ext cx="8381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ширение дерева бюджет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ышение оперативности управления денежными средствами на счетах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ормирование бюджета затрат Обществ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31:04Z</dcterms:created>
  <dc:creator>OLYMP:FINANS</dc:creator>
  <dc:description/>
  <dc:language>en-US</dc:language>
  <cp:lastModifiedBy>В.В. Шишляев</cp:lastModifiedBy>
  <dcterms:modified xsi:type="dcterms:W3CDTF">2004-03-17T17:37:23Z</dcterms:modified>
  <cp:revision>114</cp:revision>
  <dc:subject/>
  <dc:title>Финансовое состояние ОАО «Пермэнерго» по итогам I квартала 2003 года.</dc:title>
</cp:coreProperties>
</file>